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D087-8A30-4DC2-AEEA-2A949349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8F06-ACD1-4AC4-A102-CE7B109D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CBA7-5BE8-4FCD-B8FE-2CECDCB3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9894-9C2E-4796-8997-9CAF82F2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2D58-4B7E-4EAC-B7B7-A59BFF1F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637D-1822-4067-A2F4-B1B903CB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91B-BE55-4A48-84A4-2FCEECC9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3C75-4995-403B-9C56-24003539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8A0F-1114-4F69-99EB-FE235FB3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008F-8427-481C-A199-77BF505A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81E9-F260-4F07-B9DF-9C79F1CB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550C-5888-4434-96E2-2FCE490C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47FA-5751-4E65-866C-FB077DAAEC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23558"/>
          <p:cNvGrpSpPr/>
          <p:nvPr/>
        </p:nvGrpSpPr>
        <p:grpSpPr>
          <a:xfrm>
            <a:off x="468360" y="333360"/>
            <a:ext cx="1079280" cy="1154160"/>
            <a:chOff x="468360" y="333360"/>
            <a:chExt cx="1079280" cy="1154160"/>
          </a:xfrm>
        </p:grpSpPr>
        <p:sp>
          <p:nvSpPr>
            <p:cNvPr id="42" name="直接连接符 23559"/>
            <p:cNvSpPr/>
            <p:nvPr/>
          </p:nvSpPr>
          <p:spPr>
            <a:xfrm>
              <a:off x="504360" y="602640"/>
              <a:ext cx="1043280" cy="0"/>
            </a:xfrm>
            <a:prstGeom prst="line">
              <a:avLst/>
            </a:prstGeom>
            <a:ln w="5724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直接连接符 23560"/>
            <p:cNvSpPr/>
            <p:nvPr/>
          </p:nvSpPr>
          <p:spPr>
            <a:xfrm>
              <a:off x="468360" y="1064160"/>
              <a:ext cx="1079280" cy="0"/>
            </a:xfrm>
            <a:prstGeom prst="line">
              <a:avLst/>
            </a:prstGeom>
            <a:ln w="5724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直接连接符 23561"/>
            <p:cNvSpPr/>
            <p:nvPr/>
          </p:nvSpPr>
          <p:spPr>
            <a:xfrm flipH="1">
              <a:off x="683640" y="333360"/>
              <a:ext cx="575640" cy="1154160"/>
            </a:xfrm>
            <a:prstGeom prst="line">
              <a:avLst/>
            </a:prstGeom>
            <a:ln w="5724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平行四边形 23563"/>
          <p:cNvSpPr/>
          <p:nvPr/>
        </p:nvSpPr>
        <p:spPr>
          <a:xfrm flipH="1" rot="2322600">
            <a:off x="7491960" y="3789000"/>
            <a:ext cx="1079640" cy="433440"/>
          </a:xfrm>
          <a:prstGeom prst="parallelogram">
            <a:avLst>
              <a:gd name="adj" fmla="val 92704"/>
            </a:avLst>
          </a:prstGeom>
          <a:noFill/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组合 23566"/>
          <p:cNvGrpSpPr/>
          <p:nvPr/>
        </p:nvGrpSpPr>
        <p:grpSpPr>
          <a:xfrm>
            <a:off x="1692360" y="5661000"/>
            <a:ext cx="1150560" cy="792360"/>
            <a:chOff x="1692360" y="5661000"/>
            <a:chExt cx="1150560" cy="792360"/>
          </a:xfrm>
        </p:grpSpPr>
        <p:sp>
          <p:nvSpPr>
            <p:cNvPr id="47" name="等腰三角形 23562"/>
            <p:cNvSpPr/>
            <p:nvPr/>
          </p:nvSpPr>
          <p:spPr>
            <a:xfrm>
              <a:off x="1692360" y="5677560"/>
              <a:ext cx="809640" cy="775800"/>
            </a:xfrm>
            <a:prstGeom prst="triangle">
              <a:avLst>
                <a:gd name="adj" fmla="val 77880"/>
              </a:avLst>
            </a:prstGeom>
            <a:noFill/>
            <a:ln w="572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23564"/>
            <p:cNvSpPr/>
            <p:nvPr/>
          </p:nvSpPr>
          <p:spPr>
            <a:xfrm>
              <a:off x="2315880" y="5661000"/>
              <a:ext cx="527040" cy="0"/>
            </a:xfrm>
            <a:prstGeom prst="line">
              <a:avLst/>
            </a:prstGeom>
            <a:ln w="5724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文本框 23568"/>
          <p:cNvSpPr/>
          <p:nvPr/>
        </p:nvSpPr>
        <p:spPr>
          <a:xfrm>
            <a:off x="287280" y="549360"/>
            <a:ext cx="88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平行线的判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611280" y="19540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位角相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直线平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内错角相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直线平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旁内角互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直线平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两条直线都与第三条直线平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么这两条直线也互相平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两条直线都与第三条直线垂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么这两条直线也互相平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21506"/>
          <p:cNvSpPr/>
          <p:nvPr/>
        </p:nvSpPr>
        <p:spPr>
          <a:xfrm>
            <a:off x="1932840" y="107172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判定两条直线是否平行的方法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1507"/>
          <p:cNvSpPr txBox="1"/>
          <p:nvPr/>
        </p:nvSpPr>
        <p:spPr>
          <a:xfrm>
            <a:off x="3635280" y="189000"/>
            <a:ext cx="15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99cc00"/>
                  </a:solidFill>
                  <a:round/>
                </a:ln>
                <a:solidFill>
                  <a:srgbClr val="99cc00"/>
                </a:solidFill>
                <a:latin typeface="宋体"/>
              </a:rPr>
              <a:t>小结</a:t>
            </a:r>
            <a:endParaRPr b="1" lang="en-US" sz="1800" spc="1" strike="noStrike">
              <a:ln w="9360">
                <a:solidFill>
                  <a:srgbClr val="99cc00"/>
                </a:solidFill>
                <a:round/>
              </a:ln>
              <a:solidFill>
                <a:srgbClr val="99cc00"/>
              </a:solidFill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24577"/>
          <p:cNvSpPr/>
          <p:nvPr/>
        </p:nvSpPr>
        <p:spPr>
          <a:xfrm>
            <a:off x="82440" y="115920"/>
            <a:ext cx="6877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回顾：如何判断两条直线平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24607"/>
          <p:cNvSpPr/>
          <p:nvPr/>
        </p:nvSpPr>
        <p:spPr>
          <a:xfrm>
            <a:off x="755640" y="2565360"/>
            <a:ext cx="7704000" cy="581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方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1: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同位角相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两直线平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24616"/>
          <p:cNvGrpSpPr/>
          <p:nvPr/>
        </p:nvGrpSpPr>
        <p:grpSpPr>
          <a:xfrm>
            <a:off x="5256360" y="0"/>
            <a:ext cx="3887640" cy="2781000"/>
            <a:chOff x="5256360" y="0"/>
            <a:chExt cx="3887640" cy="2781000"/>
          </a:xfrm>
        </p:grpSpPr>
        <p:grpSp>
          <p:nvGrpSpPr>
            <p:cNvPr id="53" name="组合 24592"/>
            <p:cNvGrpSpPr/>
            <p:nvPr/>
          </p:nvGrpSpPr>
          <p:grpSpPr>
            <a:xfrm>
              <a:off x="5256360" y="891000"/>
              <a:ext cx="3887640" cy="581400"/>
              <a:chOff x="5256360" y="891000"/>
              <a:chExt cx="3887640" cy="581400"/>
            </a:xfrm>
          </p:grpSpPr>
          <p:sp>
            <p:nvSpPr>
              <p:cNvPr id="54" name="直接连接符 24593"/>
              <p:cNvSpPr/>
              <p:nvPr/>
            </p:nvSpPr>
            <p:spPr>
              <a:xfrm>
                <a:off x="5256360" y="1047960"/>
                <a:ext cx="3416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矩形 24594"/>
              <p:cNvSpPr/>
              <p:nvPr/>
            </p:nvSpPr>
            <p:spPr>
              <a:xfrm>
                <a:off x="8668440" y="891000"/>
                <a:ext cx="475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组合 24595"/>
            <p:cNvGrpSpPr/>
            <p:nvPr/>
          </p:nvGrpSpPr>
          <p:grpSpPr>
            <a:xfrm>
              <a:off x="5393520" y="1730880"/>
              <a:ext cx="3656160" cy="581400"/>
              <a:chOff x="5393520" y="1730880"/>
              <a:chExt cx="3656160" cy="581400"/>
            </a:xfrm>
          </p:grpSpPr>
          <p:sp>
            <p:nvSpPr>
              <p:cNvPr id="57" name="直接连接符 24596"/>
              <p:cNvSpPr/>
              <p:nvPr/>
            </p:nvSpPr>
            <p:spPr>
              <a:xfrm>
                <a:off x="5393520" y="2122920"/>
                <a:ext cx="3155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矩形 24597"/>
              <p:cNvSpPr/>
              <p:nvPr/>
            </p:nvSpPr>
            <p:spPr>
              <a:xfrm>
                <a:off x="8610480" y="1730880"/>
                <a:ext cx="439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Book Antiqua"/>
                    <a:ea typeface="华文中宋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任意多边形 24598"/>
            <p:cNvSpPr/>
            <p:nvPr/>
          </p:nvSpPr>
          <p:spPr>
            <a:xfrm rot="20323200">
              <a:off x="6543720" y="1735920"/>
              <a:ext cx="57600" cy="365040"/>
            </a:xfrm>
            <a:custGeom>
              <a:avLst/>
              <a:gdLst/>
              <a:ahLst/>
              <a:rect l="l" t="t" r="r" b="b"/>
              <a:pathLst>
                <a:path fill="none" w="21600" h="4318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221"/>
                    <a:pt x="12423" y="42699"/>
                    <a:pt x="924" y="43181"/>
                  </a:cubicBezTo>
                </a:path>
                <a:path stroke="0" w="21600" h="4318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221"/>
                    <a:pt x="12423" y="42699"/>
                    <a:pt x="924" y="43181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24599"/>
            <p:cNvSpPr/>
            <p:nvPr/>
          </p:nvSpPr>
          <p:spPr>
            <a:xfrm>
              <a:off x="6605640" y="1550520"/>
              <a:ext cx="49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任意多边形 24600"/>
            <p:cNvSpPr/>
            <p:nvPr/>
          </p:nvSpPr>
          <p:spPr>
            <a:xfrm rot="20323200">
              <a:off x="7411680" y="662040"/>
              <a:ext cx="57960" cy="365040"/>
            </a:xfrm>
            <a:custGeom>
              <a:avLst/>
              <a:gdLst/>
              <a:ahLst/>
              <a:rect l="l" t="t" r="r" b="b"/>
              <a:pathLst>
                <a:path fill="none" w="21600" h="4318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221"/>
                    <a:pt x="12423" y="42699"/>
                    <a:pt x="924" y="43181"/>
                  </a:cubicBezTo>
                </a:path>
                <a:path stroke="0" w="21600" h="4318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221"/>
                    <a:pt x="12423" y="42699"/>
                    <a:pt x="924" y="43181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文本框 24601"/>
            <p:cNvSpPr/>
            <p:nvPr/>
          </p:nvSpPr>
          <p:spPr>
            <a:xfrm>
              <a:off x="7531920" y="494640"/>
              <a:ext cx="29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组合 24605"/>
            <p:cNvGrpSpPr/>
            <p:nvPr/>
          </p:nvGrpSpPr>
          <p:grpSpPr>
            <a:xfrm>
              <a:off x="5605920" y="0"/>
              <a:ext cx="2837520" cy="2781000"/>
              <a:chOff x="5605920" y="0"/>
              <a:chExt cx="2837520" cy="2781000"/>
            </a:xfrm>
          </p:grpSpPr>
          <p:sp>
            <p:nvSpPr>
              <p:cNvPr id="64" name="直接连接符 24602"/>
              <p:cNvSpPr/>
              <p:nvPr/>
            </p:nvSpPr>
            <p:spPr>
              <a:xfrm flipV="1">
                <a:off x="5605920" y="246240"/>
                <a:ext cx="2131560" cy="2534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矩形 24603"/>
              <p:cNvSpPr/>
              <p:nvPr/>
            </p:nvSpPr>
            <p:spPr>
              <a:xfrm>
                <a:off x="7786440" y="0"/>
                <a:ext cx="657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文本框 24611"/>
            <p:cNvSpPr/>
            <p:nvPr/>
          </p:nvSpPr>
          <p:spPr>
            <a:xfrm>
              <a:off x="6422760" y="989280"/>
              <a:ext cx="29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任意多边形 24612"/>
            <p:cNvSpPr/>
            <p:nvPr/>
          </p:nvSpPr>
          <p:spPr>
            <a:xfrm rot="8624400">
              <a:off x="6798240" y="1060200"/>
              <a:ext cx="57600" cy="249120"/>
            </a:xfrm>
            <a:custGeom>
              <a:avLst/>
              <a:gdLst/>
              <a:ahLst/>
              <a:rect l="l" t="t" r="r" b="b"/>
              <a:pathLst>
                <a:path fill="none" w="21600" h="29428">
                  <a:moveTo>
                    <a:pt x="20123" y="0"/>
                  </a:moveTo>
                  <a:cubicBezTo>
                    <a:pt x="21077" y="2429"/>
                    <a:pt x="21599" y="5078"/>
                    <a:pt x="21599" y="7848"/>
                  </a:cubicBezTo>
                  <a:cubicBezTo>
                    <a:pt x="21599" y="19469"/>
                    <a:pt x="12422" y="28947"/>
                    <a:pt x="923" y="29429"/>
                  </a:cubicBezTo>
                </a:path>
                <a:path stroke="0" w="21600" h="29428">
                  <a:moveTo>
                    <a:pt x="20123" y="0"/>
                  </a:moveTo>
                  <a:cubicBezTo>
                    <a:pt x="21077" y="2429"/>
                    <a:pt x="21599" y="5078"/>
                    <a:pt x="21599" y="7848"/>
                  </a:cubicBezTo>
                  <a:cubicBezTo>
                    <a:pt x="21599" y="19469"/>
                    <a:pt x="12422" y="28947"/>
                    <a:pt x="923" y="29429"/>
                  </a:cubicBezTo>
                  <a:lnTo>
                    <a:pt x="0" y="7848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任意多边形 24613"/>
            <p:cNvSpPr/>
            <p:nvPr/>
          </p:nvSpPr>
          <p:spPr>
            <a:xfrm rot="3635400">
              <a:off x="7067520" y="997560"/>
              <a:ext cx="61200" cy="235080"/>
            </a:xfrm>
            <a:custGeom>
              <a:avLst/>
              <a:gdLst/>
              <a:ahLst/>
              <a:rect l="l" t="t" r="r" b="b"/>
              <a:pathLst>
                <a:path fill="none" w="21600" h="29428">
                  <a:moveTo>
                    <a:pt x="20123" y="0"/>
                  </a:moveTo>
                  <a:cubicBezTo>
                    <a:pt x="21077" y="2429"/>
                    <a:pt x="21599" y="5078"/>
                    <a:pt x="21599" y="7848"/>
                  </a:cubicBezTo>
                  <a:cubicBezTo>
                    <a:pt x="21599" y="19469"/>
                    <a:pt x="12422" y="28947"/>
                    <a:pt x="923" y="29429"/>
                  </a:cubicBezTo>
                </a:path>
                <a:path stroke="0" w="21600" h="29428">
                  <a:moveTo>
                    <a:pt x="20123" y="0"/>
                  </a:moveTo>
                  <a:cubicBezTo>
                    <a:pt x="21077" y="2429"/>
                    <a:pt x="21599" y="5078"/>
                    <a:pt x="21599" y="7848"/>
                  </a:cubicBezTo>
                  <a:cubicBezTo>
                    <a:pt x="21599" y="19469"/>
                    <a:pt x="12422" y="28947"/>
                    <a:pt x="923" y="29429"/>
                  </a:cubicBezTo>
                  <a:lnTo>
                    <a:pt x="0" y="7848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文本框 24614"/>
            <p:cNvSpPr/>
            <p:nvPr/>
          </p:nvSpPr>
          <p:spPr>
            <a:xfrm>
              <a:off x="7065000" y="1050480"/>
              <a:ext cx="29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文本框 24617"/>
          <p:cNvSpPr/>
          <p:nvPr/>
        </p:nvSpPr>
        <p:spPr>
          <a:xfrm>
            <a:off x="684360" y="4076640"/>
            <a:ext cx="7848360" cy="58140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错角相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直线平行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4618"/>
          <p:cNvSpPr/>
          <p:nvPr/>
        </p:nvSpPr>
        <p:spPr>
          <a:xfrm>
            <a:off x="611280" y="5445000"/>
            <a:ext cx="8064360" cy="58140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旁内角互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直线平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8964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=∠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可以推出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∥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理由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=∠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可以推出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∥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理由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如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=75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=105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可以推出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∥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理由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9938"/>
          <p:cNvSpPr/>
          <p:nvPr/>
        </p:nvSpPr>
        <p:spPr>
          <a:xfrm>
            <a:off x="324000" y="115920"/>
            <a:ext cx="1584000" cy="5814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39940"/>
          <p:cNvSpPr/>
          <p:nvPr/>
        </p:nvSpPr>
        <p:spPr>
          <a:xfrm>
            <a:off x="6631920" y="234936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9941"/>
          <p:cNvSpPr/>
          <p:nvPr/>
        </p:nvSpPr>
        <p:spPr>
          <a:xfrm>
            <a:off x="5846400" y="2349360"/>
            <a:ext cx="4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9942"/>
          <p:cNvSpPr/>
          <p:nvPr/>
        </p:nvSpPr>
        <p:spPr>
          <a:xfrm>
            <a:off x="1979640" y="2852640"/>
            <a:ext cx="51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内错角相等，两直线平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39945"/>
          <p:cNvSpPr/>
          <p:nvPr/>
        </p:nvSpPr>
        <p:spPr>
          <a:xfrm>
            <a:off x="2843280" y="4076640"/>
            <a:ext cx="50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同位角相等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两直线平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9949"/>
          <p:cNvSpPr/>
          <p:nvPr/>
        </p:nvSpPr>
        <p:spPr>
          <a:xfrm>
            <a:off x="3276720" y="3500280"/>
            <a:ext cx="67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39973"/>
          <p:cNvSpPr/>
          <p:nvPr/>
        </p:nvSpPr>
        <p:spPr>
          <a:xfrm>
            <a:off x="2627280" y="5013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39974"/>
          <p:cNvSpPr/>
          <p:nvPr/>
        </p:nvSpPr>
        <p:spPr>
          <a:xfrm>
            <a:off x="3492360" y="5013360"/>
            <a:ext cx="8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40002"/>
          <p:cNvSpPr/>
          <p:nvPr/>
        </p:nvSpPr>
        <p:spPr>
          <a:xfrm>
            <a:off x="2771640" y="57340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同旁内角互补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两直线平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40005"/>
          <p:cNvGrpSpPr/>
          <p:nvPr/>
        </p:nvGrpSpPr>
        <p:grpSpPr>
          <a:xfrm>
            <a:off x="5292720" y="0"/>
            <a:ext cx="3405240" cy="2508480"/>
            <a:chOff x="5292720" y="0"/>
            <a:chExt cx="3405240" cy="2508480"/>
          </a:xfrm>
        </p:grpSpPr>
        <p:sp>
          <p:nvSpPr>
            <p:cNvPr id="83" name="直接连接符 39977"/>
            <p:cNvSpPr/>
            <p:nvPr/>
          </p:nvSpPr>
          <p:spPr>
            <a:xfrm>
              <a:off x="5724360" y="1069920"/>
              <a:ext cx="2952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直接连接符 39979"/>
            <p:cNvSpPr/>
            <p:nvPr/>
          </p:nvSpPr>
          <p:spPr>
            <a:xfrm>
              <a:off x="5664240" y="1989000"/>
              <a:ext cx="2950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文本框 39982"/>
            <p:cNvSpPr/>
            <p:nvPr/>
          </p:nvSpPr>
          <p:spPr>
            <a:xfrm>
              <a:off x="7718400" y="433440"/>
              <a:ext cx="393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39984"/>
            <p:cNvSpPr/>
            <p:nvPr/>
          </p:nvSpPr>
          <p:spPr>
            <a:xfrm>
              <a:off x="7443720" y="969840"/>
              <a:ext cx="35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39986"/>
            <p:cNvSpPr/>
            <p:nvPr/>
          </p:nvSpPr>
          <p:spPr>
            <a:xfrm>
              <a:off x="5292720" y="76500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39987"/>
            <p:cNvSpPr/>
            <p:nvPr/>
          </p:nvSpPr>
          <p:spPr>
            <a:xfrm>
              <a:off x="5303880" y="162864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Book Antiqua"/>
                  <a:ea typeface="华文中宋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 39990"/>
            <p:cNvSpPr/>
            <p:nvPr/>
          </p:nvSpPr>
          <p:spPr>
            <a:xfrm flipH="1">
              <a:off x="5962320" y="549360"/>
              <a:ext cx="1081080" cy="1873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直接连接符 39991"/>
            <p:cNvSpPr/>
            <p:nvPr/>
          </p:nvSpPr>
          <p:spPr>
            <a:xfrm flipH="1">
              <a:off x="7248240" y="549360"/>
              <a:ext cx="1060200" cy="1942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任意多边形 39992"/>
            <p:cNvSpPr/>
            <p:nvPr/>
          </p:nvSpPr>
          <p:spPr>
            <a:xfrm flipH="1" flipV="1" rot="14868600">
              <a:off x="7240320" y="2033280"/>
              <a:ext cx="245880" cy="153720"/>
            </a:xfrm>
            <a:custGeom>
              <a:avLst/>
              <a:gdLst/>
              <a:ahLst/>
              <a:rect l="l" t="t" r="r" b="b"/>
              <a:pathLst>
                <a:path fill="none" w="33590" h="21600">
                  <a:moveTo>
                    <a:pt x="33590" y="12849"/>
                  </a:moveTo>
                  <a:cubicBezTo>
                    <a:pt x="29656" y="18159"/>
                    <a:pt x="23344" y="21600"/>
                    <a:pt x="16228" y="21600"/>
                  </a:cubicBezTo>
                  <a:cubicBezTo>
                    <a:pt x="9761" y="21600"/>
                    <a:pt x="3958" y="18758"/>
                    <a:pt x="0" y="14255"/>
                  </a:cubicBezTo>
                </a:path>
                <a:path stroke="0" w="33590" h="21600">
                  <a:moveTo>
                    <a:pt x="33590" y="12849"/>
                  </a:moveTo>
                  <a:cubicBezTo>
                    <a:pt x="29656" y="18159"/>
                    <a:pt x="23344" y="21600"/>
                    <a:pt x="16228" y="21600"/>
                  </a:cubicBezTo>
                  <a:cubicBezTo>
                    <a:pt x="9761" y="21600"/>
                    <a:pt x="3958" y="18758"/>
                    <a:pt x="0" y="14255"/>
                  </a:cubicBezTo>
                  <a:lnTo>
                    <a:pt x="16228" y="0"/>
                  </a:lnTo>
                  <a:close/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39995"/>
            <p:cNvSpPr/>
            <p:nvPr/>
          </p:nvSpPr>
          <p:spPr>
            <a:xfrm rot="20323200">
              <a:off x="6970680" y="765000"/>
              <a:ext cx="46080" cy="282600"/>
            </a:xfrm>
            <a:custGeom>
              <a:avLst/>
              <a:gdLst/>
              <a:ahLst/>
              <a:rect l="l" t="t" r="r" b="b"/>
              <a:pathLst>
                <a:path fill="none" w="21600" h="4318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221"/>
                    <a:pt x="12423" y="42699"/>
                    <a:pt x="924" y="43181"/>
                  </a:cubicBezTo>
                </a:path>
                <a:path stroke="0" w="21600" h="4318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221"/>
                    <a:pt x="12423" y="42699"/>
                    <a:pt x="924" y="43181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文本框 39996"/>
            <p:cNvSpPr/>
            <p:nvPr/>
          </p:nvSpPr>
          <p:spPr>
            <a:xfrm>
              <a:off x="6918120" y="1927080"/>
              <a:ext cx="35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文本框 39997"/>
            <p:cNvSpPr/>
            <p:nvPr/>
          </p:nvSpPr>
          <p:spPr>
            <a:xfrm>
              <a:off x="6970680" y="54936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39999"/>
            <p:cNvSpPr/>
            <p:nvPr/>
          </p:nvSpPr>
          <p:spPr>
            <a:xfrm flipH="1" flipV="1" rot="19600800">
              <a:off x="7872840" y="836640"/>
              <a:ext cx="309600" cy="288720"/>
            </a:xfrm>
            <a:custGeom>
              <a:avLst/>
              <a:gdLst/>
              <a:ahLst/>
              <a:rect l="l" t="t" r="r" b="b"/>
              <a:pathLst>
                <a:path fill="none" w="33590" h="21600">
                  <a:moveTo>
                    <a:pt x="33590" y="12849"/>
                  </a:moveTo>
                  <a:cubicBezTo>
                    <a:pt x="29656" y="18159"/>
                    <a:pt x="23344" y="21600"/>
                    <a:pt x="16228" y="21600"/>
                  </a:cubicBezTo>
                  <a:cubicBezTo>
                    <a:pt x="9761" y="21600"/>
                    <a:pt x="3958" y="18758"/>
                    <a:pt x="0" y="14255"/>
                  </a:cubicBezTo>
                </a:path>
                <a:path stroke="0" w="33590" h="21600">
                  <a:moveTo>
                    <a:pt x="33590" y="12849"/>
                  </a:moveTo>
                  <a:cubicBezTo>
                    <a:pt x="29656" y="18159"/>
                    <a:pt x="23344" y="21600"/>
                    <a:pt x="16228" y="21600"/>
                  </a:cubicBezTo>
                  <a:cubicBezTo>
                    <a:pt x="9761" y="21600"/>
                    <a:pt x="3958" y="18758"/>
                    <a:pt x="0" y="14255"/>
                  </a:cubicBezTo>
                  <a:lnTo>
                    <a:pt x="16228" y="0"/>
                  </a:lnTo>
                  <a:close/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40000"/>
            <p:cNvSpPr/>
            <p:nvPr/>
          </p:nvSpPr>
          <p:spPr>
            <a:xfrm>
              <a:off x="6877080" y="0"/>
              <a:ext cx="51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40001"/>
            <p:cNvSpPr/>
            <p:nvPr/>
          </p:nvSpPr>
          <p:spPr>
            <a:xfrm>
              <a:off x="8183520" y="3024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40003"/>
            <p:cNvSpPr/>
            <p:nvPr/>
          </p:nvSpPr>
          <p:spPr>
            <a:xfrm flipH="1" flipV="1" rot="14868600">
              <a:off x="7765560" y="1096200"/>
              <a:ext cx="246240" cy="153720"/>
            </a:xfrm>
            <a:custGeom>
              <a:avLst/>
              <a:gdLst/>
              <a:ahLst/>
              <a:rect l="l" t="t" r="r" b="b"/>
              <a:pathLst>
                <a:path fill="none" w="33590" h="21600">
                  <a:moveTo>
                    <a:pt x="33590" y="12849"/>
                  </a:moveTo>
                  <a:cubicBezTo>
                    <a:pt x="29656" y="18159"/>
                    <a:pt x="23344" y="21600"/>
                    <a:pt x="16228" y="21600"/>
                  </a:cubicBezTo>
                  <a:cubicBezTo>
                    <a:pt x="9761" y="21600"/>
                    <a:pt x="3958" y="18758"/>
                    <a:pt x="0" y="14255"/>
                  </a:cubicBezTo>
                </a:path>
                <a:path stroke="0" w="33590" h="21600">
                  <a:moveTo>
                    <a:pt x="33590" y="12849"/>
                  </a:moveTo>
                  <a:cubicBezTo>
                    <a:pt x="29656" y="18159"/>
                    <a:pt x="23344" y="21600"/>
                    <a:pt x="16228" y="21600"/>
                  </a:cubicBezTo>
                  <a:cubicBezTo>
                    <a:pt x="9761" y="21600"/>
                    <a:pt x="3958" y="18758"/>
                    <a:pt x="0" y="14255"/>
                  </a:cubicBezTo>
                  <a:lnTo>
                    <a:pt x="16228" y="0"/>
                  </a:lnTo>
                  <a:close/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0004"/>
          <p:cNvSpPr/>
          <p:nvPr/>
        </p:nvSpPr>
        <p:spPr>
          <a:xfrm>
            <a:off x="541440" y="118116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40962"/>
          <p:cNvSpPr/>
          <p:nvPr/>
        </p:nvSpPr>
        <p:spPr>
          <a:xfrm>
            <a:off x="539640" y="2025720"/>
            <a:ext cx="835992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=∠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以推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　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∥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理由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40963"/>
          <p:cNvSpPr/>
          <p:nvPr/>
        </p:nvSpPr>
        <p:spPr>
          <a:xfrm>
            <a:off x="0" y="4425840"/>
            <a:ext cx="975672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 +∠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180°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以推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∥C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理由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40964"/>
          <p:cNvSpPr/>
          <p:nvPr/>
        </p:nvSpPr>
        <p:spPr>
          <a:xfrm>
            <a:off x="533520" y="5010120"/>
            <a:ext cx="586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40965"/>
          <p:cNvSpPr/>
          <p:nvPr/>
        </p:nvSpPr>
        <p:spPr>
          <a:xfrm>
            <a:off x="324000" y="3141720"/>
            <a:ext cx="829152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∠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以推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∥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理由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40988"/>
          <p:cNvGrpSpPr/>
          <p:nvPr/>
        </p:nvGrpSpPr>
        <p:grpSpPr>
          <a:xfrm>
            <a:off x="2797200" y="115920"/>
            <a:ext cx="4295880" cy="2089440"/>
            <a:chOff x="2797200" y="115920"/>
            <a:chExt cx="4295880" cy="2089440"/>
          </a:xfrm>
        </p:grpSpPr>
        <p:sp>
          <p:nvSpPr>
            <p:cNvPr id="105" name="直接连接符 40967"/>
            <p:cNvSpPr/>
            <p:nvPr/>
          </p:nvSpPr>
          <p:spPr>
            <a:xfrm flipH="1">
              <a:off x="5072040" y="428760"/>
              <a:ext cx="1278000" cy="126504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40968"/>
            <p:cNvSpPr/>
            <p:nvPr/>
          </p:nvSpPr>
          <p:spPr>
            <a:xfrm flipH="1">
              <a:off x="3154320" y="428760"/>
              <a:ext cx="1278000" cy="126504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40969"/>
            <p:cNvSpPr/>
            <p:nvPr/>
          </p:nvSpPr>
          <p:spPr>
            <a:xfrm>
              <a:off x="4376880" y="452520"/>
              <a:ext cx="191592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接连接符 40970"/>
            <p:cNvSpPr/>
            <p:nvPr/>
          </p:nvSpPr>
          <p:spPr>
            <a:xfrm>
              <a:off x="3154320" y="1693800"/>
              <a:ext cx="332280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40971"/>
            <p:cNvSpPr/>
            <p:nvPr/>
          </p:nvSpPr>
          <p:spPr>
            <a:xfrm flipH="1">
              <a:off x="3153960" y="428760"/>
              <a:ext cx="3195720" cy="126504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40972"/>
            <p:cNvSpPr/>
            <p:nvPr/>
          </p:nvSpPr>
          <p:spPr>
            <a:xfrm>
              <a:off x="3995640" y="115920"/>
              <a:ext cx="76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文本框 40973"/>
            <p:cNvSpPr/>
            <p:nvPr/>
          </p:nvSpPr>
          <p:spPr>
            <a:xfrm>
              <a:off x="2797200" y="1407960"/>
              <a:ext cx="76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40974"/>
            <p:cNvSpPr/>
            <p:nvPr/>
          </p:nvSpPr>
          <p:spPr>
            <a:xfrm>
              <a:off x="4859280" y="1623960"/>
              <a:ext cx="76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40975"/>
            <p:cNvSpPr/>
            <p:nvPr/>
          </p:nvSpPr>
          <p:spPr>
            <a:xfrm>
              <a:off x="6326280" y="187200"/>
              <a:ext cx="76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40976"/>
            <p:cNvSpPr/>
            <p:nvPr/>
          </p:nvSpPr>
          <p:spPr>
            <a:xfrm>
              <a:off x="3665520" y="1187280"/>
              <a:ext cx="128520" cy="25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任意多边形 40977"/>
            <p:cNvSpPr/>
            <p:nvPr/>
          </p:nvSpPr>
          <p:spPr>
            <a:xfrm>
              <a:off x="4049640" y="1312920"/>
              <a:ext cx="127080" cy="380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16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任意多边形 40978"/>
            <p:cNvSpPr/>
            <p:nvPr/>
          </p:nvSpPr>
          <p:spPr>
            <a:xfrm flipH="1" flipV="1">
              <a:off x="5582520" y="428040"/>
              <a:ext cx="127080" cy="252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16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任意多边形 40979"/>
            <p:cNvSpPr/>
            <p:nvPr/>
          </p:nvSpPr>
          <p:spPr>
            <a:xfrm flipH="1" flipV="1">
              <a:off x="5454720" y="807480"/>
              <a:ext cx="255600" cy="252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168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文本框 40980"/>
            <p:cNvSpPr/>
            <p:nvPr/>
          </p:nvSpPr>
          <p:spPr>
            <a:xfrm>
              <a:off x="3708360" y="976320"/>
              <a:ext cx="38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文本框 40981"/>
            <p:cNvSpPr/>
            <p:nvPr/>
          </p:nvSpPr>
          <p:spPr>
            <a:xfrm>
              <a:off x="4176720" y="1266840"/>
              <a:ext cx="63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文本框 40982"/>
            <p:cNvSpPr/>
            <p:nvPr/>
          </p:nvSpPr>
          <p:spPr>
            <a:xfrm>
              <a:off x="5219640" y="355680"/>
              <a:ext cx="36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文本框 40983"/>
            <p:cNvSpPr/>
            <p:nvPr/>
          </p:nvSpPr>
          <p:spPr>
            <a:xfrm>
              <a:off x="5186520" y="907920"/>
              <a:ext cx="53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0984"/>
            <p:cNvSpPr/>
            <p:nvPr/>
          </p:nvSpPr>
          <p:spPr>
            <a:xfrm>
              <a:off x="5580000" y="1195560"/>
              <a:ext cx="51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任意多边形 40985"/>
            <p:cNvSpPr/>
            <p:nvPr/>
          </p:nvSpPr>
          <p:spPr>
            <a:xfrm>
              <a:off x="5454720" y="1312920"/>
              <a:ext cx="128520" cy="380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16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文本框 40986"/>
          <p:cNvSpPr/>
          <p:nvPr/>
        </p:nvSpPr>
        <p:spPr>
          <a:xfrm>
            <a:off x="250920" y="5546880"/>
            <a:ext cx="836280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=∠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以推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∥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理由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40987"/>
          <p:cNvSpPr/>
          <p:nvPr/>
        </p:nvSpPr>
        <p:spPr>
          <a:xfrm>
            <a:off x="324000" y="115920"/>
            <a:ext cx="1584000" cy="5814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40990"/>
          <p:cNvSpPr/>
          <p:nvPr/>
        </p:nvSpPr>
        <p:spPr>
          <a:xfrm>
            <a:off x="5076720" y="19861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40991"/>
          <p:cNvSpPr/>
          <p:nvPr/>
        </p:nvSpPr>
        <p:spPr>
          <a:xfrm>
            <a:off x="2340000" y="2492280"/>
            <a:ext cx="520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内错角相等，两直线平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0992"/>
          <p:cNvSpPr/>
          <p:nvPr/>
        </p:nvSpPr>
        <p:spPr>
          <a:xfrm>
            <a:off x="6084720" y="1986120"/>
            <a:ext cx="14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40993"/>
          <p:cNvSpPr/>
          <p:nvPr/>
        </p:nvSpPr>
        <p:spPr>
          <a:xfrm>
            <a:off x="2771640" y="439596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B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40994"/>
          <p:cNvSpPr/>
          <p:nvPr/>
        </p:nvSpPr>
        <p:spPr>
          <a:xfrm>
            <a:off x="2050920" y="497196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同旁内角互补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两直线平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40995"/>
          <p:cNvSpPr/>
          <p:nvPr/>
        </p:nvSpPr>
        <p:spPr>
          <a:xfrm>
            <a:off x="1692360" y="3068640"/>
            <a:ext cx="5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0997"/>
          <p:cNvSpPr/>
          <p:nvPr/>
        </p:nvSpPr>
        <p:spPr>
          <a:xfrm>
            <a:off x="2484360" y="3645000"/>
            <a:ext cx="491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内错角相等，两直线平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0998"/>
          <p:cNvSpPr/>
          <p:nvPr/>
        </p:nvSpPr>
        <p:spPr>
          <a:xfrm>
            <a:off x="2268360" y="5516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0999"/>
          <p:cNvSpPr/>
          <p:nvPr/>
        </p:nvSpPr>
        <p:spPr>
          <a:xfrm>
            <a:off x="2195640" y="6018120"/>
            <a:ext cx="49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同位角相等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两直线平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1001"/>
          <p:cNvSpPr/>
          <p:nvPr/>
        </p:nvSpPr>
        <p:spPr>
          <a:xfrm>
            <a:off x="468360" y="1268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57345"/>
          <p:cNvGrpSpPr/>
          <p:nvPr/>
        </p:nvGrpSpPr>
        <p:grpSpPr>
          <a:xfrm>
            <a:off x="3924360" y="590400"/>
            <a:ext cx="4392720" cy="2480040"/>
            <a:chOff x="3924360" y="590400"/>
            <a:chExt cx="4392720" cy="2480040"/>
          </a:xfrm>
        </p:grpSpPr>
        <p:sp>
          <p:nvSpPr>
            <p:cNvPr id="137" name="直接连接符 57346"/>
            <p:cNvSpPr/>
            <p:nvPr/>
          </p:nvSpPr>
          <p:spPr>
            <a:xfrm flipH="1">
              <a:off x="4990680" y="1041120"/>
              <a:ext cx="685800" cy="14479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57347"/>
            <p:cNvSpPr/>
            <p:nvPr/>
          </p:nvSpPr>
          <p:spPr>
            <a:xfrm flipH="1">
              <a:off x="6895800" y="1041120"/>
              <a:ext cx="685800" cy="1447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直接连接符 57348"/>
            <p:cNvSpPr/>
            <p:nvPr/>
          </p:nvSpPr>
          <p:spPr>
            <a:xfrm>
              <a:off x="4284720" y="2463480"/>
              <a:ext cx="388620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接连接符 57349"/>
            <p:cNvSpPr/>
            <p:nvPr/>
          </p:nvSpPr>
          <p:spPr>
            <a:xfrm>
              <a:off x="4572000" y="1311120"/>
              <a:ext cx="609840" cy="175248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57350"/>
            <p:cNvSpPr/>
            <p:nvPr/>
          </p:nvSpPr>
          <p:spPr>
            <a:xfrm flipH="1" flipV="1">
              <a:off x="6286320" y="964800"/>
              <a:ext cx="609480" cy="152424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文本框 57351"/>
            <p:cNvSpPr/>
            <p:nvPr/>
          </p:nvSpPr>
          <p:spPr>
            <a:xfrm>
              <a:off x="4076640" y="888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文本框 57352"/>
            <p:cNvSpPr/>
            <p:nvPr/>
          </p:nvSpPr>
          <p:spPr>
            <a:xfrm>
              <a:off x="4572000" y="2412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文本框 57353"/>
            <p:cNvSpPr/>
            <p:nvPr/>
          </p:nvSpPr>
          <p:spPr>
            <a:xfrm>
              <a:off x="5143680" y="81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57354"/>
            <p:cNvSpPr/>
            <p:nvPr/>
          </p:nvSpPr>
          <p:spPr>
            <a:xfrm>
              <a:off x="6300720" y="590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57355"/>
            <p:cNvSpPr/>
            <p:nvPr/>
          </p:nvSpPr>
          <p:spPr>
            <a:xfrm>
              <a:off x="6588360" y="24602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文本框 57356"/>
            <p:cNvSpPr/>
            <p:nvPr/>
          </p:nvSpPr>
          <p:spPr>
            <a:xfrm>
              <a:off x="7643880" y="81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文本框 57357"/>
            <p:cNvSpPr/>
            <p:nvPr/>
          </p:nvSpPr>
          <p:spPr>
            <a:xfrm>
              <a:off x="7859880" y="18871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文本框 57358"/>
            <p:cNvSpPr/>
            <p:nvPr/>
          </p:nvSpPr>
          <p:spPr>
            <a:xfrm>
              <a:off x="3924360" y="24890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文本框 57359"/>
          <p:cNvSpPr/>
          <p:nvPr/>
        </p:nvSpPr>
        <p:spPr>
          <a:xfrm>
            <a:off x="328680" y="263376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如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57360"/>
          <p:cNvSpPr/>
          <p:nvPr/>
        </p:nvSpPr>
        <p:spPr>
          <a:xfrm>
            <a:off x="360360" y="3332160"/>
            <a:ext cx="8748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BH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，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B∥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BE=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，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B∥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HBC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，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C ∥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GBC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，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C ∥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57372"/>
          <p:cNvSpPr/>
          <p:nvPr/>
        </p:nvSpPr>
        <p:spPr>
          <a:xfrm>
            <a:off x="2443680" y="3284640"/>
            <a:ext cx="124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E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57373"/>
          <p:cNvSpPr/>
          <p:nvPr/>
        </p:nvSpPr>
        <p:spPr>
          <a:xfrm>
            <a:off x="2103480" y="38941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57374"/>
          <p:cNvSpPr/>
          <p:nvPr/>
        </p:nvSpPr>
        <p:spPr>
          <a:xfrm>
            <a:off x="2300760" y="4019400"/>
            <a:ext cx="124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57375"/>
          <p:cNvSpPr/>
          <p:nvPr/>
        </p:nvSpPr>
        <p:spPr>
          <a:xfrm>
            <a:off x="2535120" y="4543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57376"/>
          <p:cNvSpPr/>
          <p:nvPr/>
        </p:nvSpPr>
        <p:spPr>
          <a:xfrm>
            <a:off x="2372400" y="47959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57377"/>
          <p:cNvSpPr/>
          <p:nvPr/>
        </p:nvSpPr>
        <p:spPr>
          <a:xfrm>
            <a:off x="2463840" y="53355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57378"/>
          <p:cNvSpPr/>
          <p:nvPr/>
        </p:nvSpPr>
        <p:spPr>
          <a:xfrm>
            <a:off x="2443680" y="551664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G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文本框 58369"/>
          <p:cNvSpPr/>
          <p:nvPr/>
        </p:nvSpPr>
        <p:spPr>
          <a:xfrm>
            <a:off x="395280" y="2924280"/>
            <a:ext cx="83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如图，</a:t>
            </a:r>
            <a:r>
              <a:rPr b="1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∥c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=∠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那么</a:t>
            </a:r>
            <a:r>
              <a:rPr b="1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∥b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58370"/>
          <p:cNvGrpSpPr/>
          <p:nvPr/>
        </p:nvGrpSpPr>
        <p:grpSpPr>
          <a:xfrm>
            <a:off x="5003640" y="476280"/>
            <a:ext cx="2571840" cy="2160720"/>
            <a:chOff x="5003640" y="476280"/>
            <a:chExt cx="2571840" cy="2160720"/>
          </a:xfrm>
        </p:grpSpPr>
        <p:sp>
          <p:nvSpPr>
            <p:cNvPr id="162" name="文本框 58371"/>
            <p:cNvSpPr/>
            <p:nvPr/>
          </p:nvSpPr>
          <p:spPr>
            <a:xfrm>
              <a:off x="6605280" y="476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直接连接符 58372"/>
            <p:cNvSpPr/>
            <p:nvPr/>
          </p:nvSpPr>
          <p:spPr>
            <a:xfrm>
              <a:off x="5308560" y="939960"/>
              <a:ext cx="198252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接连接符 58373"/>
            <p:cNvSpPr/>
            <p:nvPr/>
          </p:nvSpPr>
          <p:spPr>
            <a:xfrm>
              <a:off x="5364000" y="1484280"/>
              <a:ext cx="198288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58374"/>
            <p:cNvSpPr/>
            <p:nvPr/>
          </p:nvSpPr>
          <p:spPr>
            <a:xfrm>
              <a:off x="5364000" y="2276640"/>
              <a:ext cx="221148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文本框 58375"/>
            <p:cNvSpPr/>
            <p:nvPr/>
          </p:nvSpPr>
          <p:spPr>
            <a:xfrm>
              <a:off x="5003640" y="7081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文本框 58376"/>
            <p:cNvSpPr/>
            <p:nvPr/>
          </p:nvSpPr>
          <p:spPr>
            <a:xfrm>
              <a:off x="5003640" y="13255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58377"/>
            <p:cNvSpPr/>
            <p:nvPr/>
          </p:nvSpPr>
          <p:spPr>
            <a:xfrm>
              <a:off x="5003640" y="201924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直接连接符 58378"/>
            <p:cNvSpPr/>
            <p:nvPr/>
          </p:nvSpPr>
          <p:spPr>
            <a:xfrm flipH="1">
              <a:off x="5868360" y="476280"/>
              <a:ext cx="763560" cy="216072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58379"/>
            <p:cNvSpPr/>
            <p:nvPr/>
          </p:nvSpPr>
          <p:spPr>
            <a:xfrm>
              <a:off x="6529320" y="630360"/>
              <a:ext cx="152280" cy="309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58380"/>
            <p:cNvSpPr/>
            <p:nvPr/>
          </p:nvSpPr>
          <p:spPr>
            <a:xfrm>
              <a:off x="6376680" y="1170000"/>
              <a:ext cx="152640" cy="309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58381"/>
            <p:cNvSpPr/>
            <p:nvPr/>
          </p:nvSpPr>
          <p:spPr>
            <a:xfrm>
              <a:off x="6453000" y="1015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文本框 58382"/>
          <p:cNvSpPr/>
          <p:nvPr/>
        </p:nvSpPr>
        <p:spPr>
          <a:xfrm>
            <a:off x="776160" y="3686040"/>
            <a:ext cx="741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：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∵ ∠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=∠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58383"/>
          <p:cNvSpPr/>
          <p:nvPr/>
        </p:nvSpPr>
        <p:spPr>
          <a:xfrm>
            <a:off x="4006080" y="4287960"/>
            <a:ext cx="638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∴ </a:t>
            </a:r>
            <a:r>
              <a:rPr b="1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∥b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                                  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58384"/>
          <p:cNvSpPr/>
          <p:nvPr/>
        </p:nvSpPr>
        <p:spPr>
          <a:xfrm>
            <a:off x="2974320" y="4935600"/>
            <a:ext cx="40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∵</a:t>
            </a:r>
            <a:r>
              <a:rPr b="1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∥c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58385"/>
          <p:cNvSpPr/>
          <p:nvPr/>
        </p:nvSpPr>
        <p:spPr>
          <a:xfrm>
            <a:off x="4329000" y="5584680"/>
            <a:ext cx="696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∴ </a:t>
            </a:r>
            <a:r>
              <a:rPr b="1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∥b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                        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文本框 37895"/>
          <p:cNvSpPr/>
          <p:nvPr/>
        </p:nvSpPr>
        <p:spPr>
          <a:xfrm>
            <a:off x="291600" y="333360"/>
            <a:ext cx="84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∠BAM+∠AMD=180°,∠1=∠2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找出图中平行的直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并说明理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37920"/>
          <p:cNvGrpSpPr/>
          <p:nvPr/>
        </p:nvGrpSpPr>
        <p:grpSpPr>
          <a:xfrm>
            <a:off x="7227720" y="1849320"/>
            <a:ext cx="542160" cy="581400"/>
            <a:chOff x="7227720" y="1849320"/>
            <a:chExt cx="542160" cy="581400"/>
          </a:xfrm>
        </p:grpSpPr>
        <p:sp>
          <p:nvSpPr>
            <p:cNvPr id="180" name="文本框 37911"/>
            <p:cNvSpPr/>
            <p:nvPr/>
          </p:nvSpPr>
          <p:spPr>
            <a:xfrm>
              <a:off x="7227720" y="18493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37912"/>
            <p:cNvSpPr/>
            <p:nvPr/>
          </p:nvSpPr>
          <p:spPr>
            <a:xfrm rot="11507400">
              <a:off x="7534080" y="1922400"/>
              <a:ext cx="216000" cy="21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16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37916"/>
          <p:cNvGrpSpPr/>
          <p:nvPr/>
        </p:nvGrpSpPr>
        <p:grpSpPr>
          <a:xfrm>
            <a:off x="6013440" y="1341360"/>
            <a:ext cx="2803320" cy="2094480"/>
            <a:chOff x="6013440" y="1341360"/>
            <a:chExt cx="2803320" cy="2094480"/>
          </a:xfrm>
        </p:grpSpPr>
        <p:sp>
          <p:nvSpPr>
            <p:cNvPr id="183" name="直接连接符 37896"/>
            <p:cNvSpPr/>
            <p:nvPr/>
          </p:nvSpPr>
          <p:spPr>
            <a:xfrm>
              <a:off x="6505560" y="1701720"/>
              <a:ext cx="151092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直接连接符 37897"/>
            <p:cNvSpPr/>
            <p:nvPr/>
          </p:nvSpPr>
          <p:spPr>
            <a:xfrm flipH="1">
              <a:off x="7235640" y="1701720"/>
              <a:ext cx="792000" cy="122400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直接连接符 37898"/>
            <p:cNvSpPr/>
            <p:nvPr/>
          </p:nvSpPr>
          <p:spPr>
            <a:xfrm>
              <a:off x="6298920" y="2925720"/>
              <a:ext cx="187164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直接连接符 37899"/>
            <p:cNvSpPr/>
            <p:nvPr/>
          </p:nvSpPr>
          <p:spPr>
            <a:xfrm flipH="1">
              <a:off x="6781320" y="1722600"/>
              <a:ext cx="1225080" cy="43164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直接连接符 37900"/>
            <p:cNvSpPr/>
            <p:nvPr/>
          </p:nvSpPr>
          <p:spPr>
            <a:xfrm flipH="1">
              <a:off x="7224480" y="2494080"/>
              <a:ext cx="1225440" cy="43164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文本框 37902"/>
            <p:cNvSpPr/>
            <p:nvPr/>
          </p:nvSpPr>
          <p:spPr>
            <a:xfrm>
              <a:off x="7967160" y="13939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37903"/>
            <p:cNvSpPr/>
            <p:nvPr/>
          </p:nvSpPr>
          <p:spPr>
            <a:xfrm>
              <a:off x="6073200" y="1341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37904"/>
            <p:cNvSpPr/>
            <p:nvPr/>
          </p:nvSpPr>
          <p:spPr>
            <a:xfrm>
              <a:off x="7021080" y="284328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37905"/>
            <p:cNvSpPr/>
            <p:nvPr/>
          </p:nvSpPr>
          <p:spPr>
            <a:xfrm>
              <a:off x="8029080" y="28544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文本框 37906"/>
            <p:cNvSpPr/>
            <p:nvPr/>
          </p:nvSpPr>
          <p:spPr>
            <a:xfrm>
              <a:off x="6013440" y="28544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文本框 37907"/>
            <p:cNvSpPr/>
            <p:nvPr/>
          </p:nvSpPr>
          <p:spPr>
            <a:xfrm>
              <a:off x="6372000" y="1846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37908"/>
            <p:cNvSpPr/>
            <p:nvPr/>
          </p:nvSpPr>
          <p:spPr>
            <a:xfrm>
              <a:off x="8387640" y="213372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37909"/>
            <p:cNvSpPr/>
            <p:nvPr/>
          </p:nvSpPr>
          <p:spPr>
            <a:xfrm>
              <a:off x="7237440" y="1557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本框 37910"/>
            <p:cNvSpPr/>
            <p:nvPr/>
          </p:nvSpPr>
          <p:spPr>
            <a:xfrm>
              <a:off x="7740720" y="25434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37914"/>
            <p:cNvSpPr/>
            <p:nvPr/>
          </p:nvSpPr>
          <p:spPr>
            <a:xfrm flipH="1">
              <a:off x="7666920" y="1701720"/>
              <a:ext cx="70920" cy="144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37915"/>
            <p:cNvSpPr/>
            <p:nvPr/>
          </p:nvSpPr>
          <p:spPr>
            <a:xfrm flipH="1" rot="9295800">
              <a:off x="7605360" y="2771640"/>
              <a:ext cx="70560" cy="144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组合 37917"/>
          <p:cNvGrpSpPr/>
          <p:nvPr/>
        </p:nvGrpSpPr>
        <p:grpSpPr>
          <a:xfrm>
            <a:off x="7412040" y="2251080"/>
            <a:ext cx="510840" cy="581400"/>
            <a:chOff x="7412040" y="2251080"/>
            <a:chExt cx="510840" cy="581400"/>
          </a:xfrm>
        </p:grpSpPr>
        <p:sp>
          <p:nvSpPr>
            <p:cNvPr id="200" name="文本框 37918"/>
            <p:cNvSpPr/>
            <p:nvPr/>
          </p:nvSpPr>
          <p:spPr>
            <a:xfrm>
              <a:off x="7516440" y="22510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37919"/>
            <p:cNvSpPr/>
            <p:nvPr/>
          </p:nvSpPr>
          <p:spPr>
            <a:xfrm>
              <a:off x="7412040" y="2611440"/>
              <a:ext cx="215640" cy="217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16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37934"/>
          <p:cNvGrpSpPr/>
          <p:nvPr/>
        </p:nvGrpSpPr>
        <p:grpSpPr>
          <a:xfrm>
            <a:off x="736920" y="3429000"/>
            <a:ext cx="7696080" cy="3111840"/>
            <a:chOff x="736920" y="3429000"/>
            <a:chExt cx="7696080" cy="3111840"/>
          </a:xfrm>
        </p:grpSpPr>
        <p:sp>
          <p:nvSpPr>
            <p:cNvPr id="203" name="文本框 37921"/>
            <p:cNvSpPr/>
            <p:nvPr/>
          </p:nvSpPr>
          <p:spPr>
            <a:xfrm>
              <a:off x="736920" y="3429000"/>
              <a:ext cx="693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如图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,AD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与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BC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相交于点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O,∠1=∠B,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∠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=∠C,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问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与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D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平行吗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为什么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组合 37933"/>
            <p:cNvGrpSpPr/>
            <p:nvPr/>
          </p:nvGrpSpPr>
          <p:grpSpPr>
            <a:xfrm>
              <a:off x="5797440" y="4448160"/>
              <a:ext cx="2635560" cy="2092680"/>
              <a:chOff x="5797440" y="4448160"/>
              <a:chExt cx="2635560" cy="2092680"/>
            </a:xfrm>
          </p:grpSpPr>
          <p:sp>
            <p:nvSpPr>
              <p:cNvPr id="205" name="文本框 37901"/>
              <p:cNvSpPr/>
              <p:nvPr/>
            </p:nvSpPr>
            <p:spPr>
              <a:xfrm>
                <a:off x="7094880" y="47736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直接连接符 37922"/>
              <p:cNvSpPr/>
              <p:nvPr/>
            </p:nvSpPr>
            <p:spPr>
              <a:xfrm>
                <a:off x="6877080" y="4806720"/>
                <a:ext cx="11509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直接连接符 37923"/>
              <p:cNvSpPr/>
              <p:nvPr/>
            </p:nvSpPr>
            <p:spPr>
              <a:xfrm flipH="1">
                <a:off x="6084720" y="4806720"/>
                <a:ext cx="1943280" cy="136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直接连接符 37924"/>
              <p:cNvSpPr/>
              <p:nvPr/>
            </p:nvSpPr>
            <p:spPr>
              <a:xfrm>
                <a:off x="6877080" y="4806720"/>
                <a:ext cx="719280" cy="136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直接连接符 37925"/>
              <p:cNvSpPr/>
              <p:nvPr/>
            </p:nvSpPr>
            <p:spPr>
              <a:xfrm>
                <a:off x="6084720" y="6175440"/>
                <a:ext cx="1511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文本框 37926"/>
              <p:cNvSpPr/>
              <p:nvPr/>
            </p:nvSpPr>
            <p:spPr>
              <a:xfrm>
                <a:off x="7958160" y="4519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文本框 37927"/>
              <p:cNvSpPr/>
              <p:nvPr/>
            </p:nvSpPr>
            <p:spPr>
              <a:xfrm>
                <a:off x="6445080" y="44481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文本框 37928"/>
              <p:cNvSpPr/>
              <p:nvPr/>
            </p:nvSpPr>
            <p:spPr>
              <a:xfrm>
                <a:off x="5797440" y="5959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文本框 37929"/>
              <p:cNvSpPr/>
              <p:nvPr/>
            </p:nvSpPr>
            <p:spPr>
              <a:xfrm>
                <a:off x="7526160" y="5959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任意多边形 37930"/>
              <p:cNvSpPr/>
              <p:nvPr/>
            </p:nvSpPr>
            <p:spPr>
              <a:xfrm rot="19296000">
                <a:off x="6948000" y="5311440"/>
                <a:ext cx="254160" cy="323640"/>
              </a:xfrm>
              <a:custGeom>
                <a:avLst/>
                <a:gdLst/>
                <a:ahLst/>
                <a:rect l="l" t="t" r="r" b="b"/>
                <a:pathLst>
                  <a:path fill="none" w="20638" h="21600">
                    <a:moveTo>
                      <a:pt x="20638" y="21545"/>
                    </a:moveTo>
                    <a:cubicBezTo>
                      <a:pt x="20134" y="21581"/>
                      <a:pt x="19624" y="21599"/>
                      <a:pt x="19110" y="21599"/>
                    </a:cubicBezTo>
                    <a:cubicBezTo>
                      <a:pt x="10818" y="21599"/>
                      <a:pt x="3617" y="16926"/>
                      <a:pt x="-2" y="10072"/>
                    </a:cubicBezTo>
                  </a:path>
                  <a:path stroke="0" w="20638" h="21600">
                    <a:moveTo>
                      <a:pt x="20638" y="21545"/>
                    </a:moveTo>
                    <a:cubicBezTo>
                      <a:pt x="20134" y="21581"/>
                      <a:pt x="19624" y="21599"/>
                      <a:pt x="19110" y="21599"/>
                    </a:cubicBezTo>
                    <a:cubicBezTo>
                      <a:pt x="10818" y="21599"/>
                      <a:pt x="3617" y="16926"/>
                      <a:pt x="-2" y="10072"/>
                    </a:cubicBezTo>
                    <a:lnTo>
                      <a:pt x="19110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任意多边形 37931"/>
              <p:cNvSpPr/>
              <p:nvPr/>
            </p:nvSpPr>
            <p:spPr>
              <a:xfrm rot="7734600">
                <a:off x="7203600" y="5125680"/>
                <a:ext cx="253800" cy="324000"/>
              </a:xfrm>
              <a:custGeom>
                <a:avLst/>
                <a:gdLst/>
                <a:ahLst/>
                <a:rect l="l" t="t" r="r" b="b"/>
                <a:pathLst>
                  <a:path fill="none" w="20638" h="21600">
                    <a:moveTo>
                      <a:pt x="20638" y="21545"/>
                    </a:moveTo>
                    <a:cubicBezTo>
                      <a:pt x="20134" y="21581"/>
                      <a:pt x="19624" y="21599"/>
                      <a:pt x="19110" y="21599"/>
                    </a:cubicBezTo>
                    <a:cubicBezTo>
                      <a:pt x="10818" y="21599"/>
                      <a:pt x="3617" y="16926"/>
                      <a:pt x="-2" y="10072"/>
                    </a:cubicBezTo>
                  </a:path>
                  <a:path stroke="0" w="20638" h="21600">
                    <a:moveTo>
                      <a:pt x="20638" y="21545"/>
                    </a:moveTo>
                    <a:cubicBezTo>
                      <a:pt x="20134" y="21581"/>
                      <a:pt x="19624" y="21599"/>
                      <a:pt x="19110" y="21599"/>
                    </a:cubicBezTo>
                    <a:cubicBezTo>
                      <a:pt x="10818" y="21599"/>
                      <a:pt x="3617" y="16926"/>
                      <a:pt x="-2" y="10072"/>
                    </a:cubicBezTo>
                    <a:lnTo>
                      <a:pt x="19110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文本框 37932"/>
              <p:cNvSpPr/>
              <p:nvPr/>
            </p:nvSpPr>
            <p:spPr>
              <a:xfrm>
                <a:off x="6878880" y="55054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文本框 22544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：已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E=130°∠BED=8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DE=150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求证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∥C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22555"/>
          <p:cNvGrpSpPr/>
          <p:nvPr/>
        </p:nvGrpSpPr>
        <p:grpSpPr>
          <a:xfrm>
            <a:off x="6229080" y="1628640"/>
            <a:ext cx="2357280" cy="2009520"/>
            <a:chOff x="6229080" y="1628640"/>
            <a:chExt cx="2357280" cy="2009520"/>
          </a:xfrm>
        </p:grpSpPr>
        <p:sp>
          <p:nvSpPr>
            <p:cNvPr id="219" name="直接连接符 22545"/>
            <p:cNvSpPr/>
            <p:nvPr/>
          </p:nvSpPr>
          <p:spPr>
            <a:xfrm>
              <a:off x="6514920" y="2203200"/>
              <a:ext cx="129708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直接连接符 22546"/>
            <p:cNvSpPr/>
            <p:nvPr/>
          </p:nvSpPr>
          <p:spPr>
            <a:xfrm flipH="1">
              <a:off x="7667280" y="2563560"/>
              <a:ext cx="431640" cy="57636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直接连接符 22547"/>
            <p:cNvSpPr/>
            <p:nvPr/>
          </p:nvSpPr>
          <p:spPr>
            <a:xfrm>
              <a:off x="7812000" y="2203200"/>
              <a:ext cx="287280" cy="36036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直接连接符 22548"/>
            <p:cNvSpPr/>
            <p:nvPr/>
          </p:nvSpPr>
          <p:spPr>
            <a:xfrm>
              <a:off x="6586560" y="3139920"/>
              <a:ext cx="108108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文本框 22550"/>
            <p:cNvSpPr/>
            <p:nvPr/>
          </p:nvSpPr>
          <p:spPr>
            <a:xfrm>
              <a:off x="6229080" y="162864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文本框 22551"/>
            <p:cNvSpPr/>
            <p:nvPr/>
          </p:nvSpPr>
          <p:spPr>
            <a:xfrm>
              <a:off x="7668720" y="162864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文本框 22552"/>
            <p:cNvSpPr/>
            <p:nvPr/>
          </p:nvSpPr>
          <p:spPr>
            <a:xfrm>
              <a:off x="8100720" y="22032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文本框 22553"/>
            <p:cNvSpPr/>
            <p:nvPr/>
          </p:nvSpPr>
          <p:spPr>
            <a:xfrm>
              <a:off x="7596000" y="29955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文本框 22554"/>
            <p:cNvSpPr/>
            <p:nvPr/>
          </p:nvSpPr>
          <p:spPr>
            <a:xfrm>
              <a:off x="6229080" y="29955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组合 22566"/>
          <p:cNvGrpSpPr/>
          <p:nvPr/>
        </p:nvGrpSpPr>
        <p:grpSpPr>
          <a:xfrm>
            <a:off x="6373800" y="4365720"/>
            <a:ext cx="1951200" cy="2009520"/>
            <a:chOff x="6373800" y="4365720"/>
            <a:chExt cx="1951200" cy="2009520"/>
          </a:xfrm>
        </p:grpSpPr>
        <p:sp>
          <p:nvSpPr>
            <p:cNvPr id="229" name="直接连接符 22557"/>
            <p:cNvSpPr/>
            <p:nvPr/>
          </p:nvSpPr>
          <p:spPr>
            <a:xfrm>
              <a:off x="6659640" y="4940280"/>
              <a:ext cx="129708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直接连接符 22558"/>
            <p:cNvSpPr/>
            <p:nvPr/>
          </p:nvSpPr>
          <p:spPr>
            <a:xfrm flipH="1">
              <a:off x="7524720" y="4942080"/>
              <a:ext cx="432000" cy="57600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直接连接符 22559"/>
            <p:cNvSpPr/>
            <p:nvPr/>
          </p:nvSpPr>
          <p:spPr>
            <a:xfrm>
              <a:off x="7534440" y="5486400"/>
              <a:ext cx="287280" cy="36036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22560"/>
            <p:cNvSpPr/>
            <p:nvPr/>
          </p:nvSpPr>
          <p:spPr>
            <a:xfrm>
              <a:off x="6731280" y="5835600"/>
              <a:ext cx="108108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文本框 22561"/>
            <p:cNvSpPr/>
            <p:nvPr/>
          </p:nvSpPr>
          <p:spPr>
            <a:xfrm>
              <a:off x="6373800" y="43657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22562"/>
            <p:cNvSpPr/>
            <p:nvPr/>
          </p:nvSpPr>
          <p:spPr>
            <a:xfrm>
              <a:off x="7813440" y="43657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22563"/>
            <p:cNvSpPr/>
            <p:nvPr/>
          </p:nvSpPr>
          <p:spPr>
            <a:xfrm>
              <a:off x="7094520" y="51577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文本框 22564"/>
            <p:cNvSpPr/>
            <p:nvPr/>
          </p:nvSpPr>
          <p:spPr>
            <a:xfrm>
              <a:off x="7740360" y="573264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文本框 22565"/>
            <p:cNvSpPr/>
            <p:nvPr/>
          </p:nvSpPr>
          <p:spPr>
            <a:xfrm>
              <a:off x="6373800" y="573264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文本框 22567"/>
          <p:cNvSpPr/>
          <p:nvPr/>
        </p:nvSpPr>
        <p:spPr>
          <a:xfrm>
            <a:off x="324000" y="465300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D=∠B+∠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求证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∥C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文本框 56323"/>
          <p:cNvSpPr/>
          <p:nvPr/>
        </p:nvSpPr>
        <p:spPr>
          <a:xfrm>
            <a:off x="715320" y="260280"/>
            <a:ext cx="758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B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DC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+∠2=90°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么直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位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关系怎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56329"/>
          <p:cNvSpPr/>
          <p:nvPr/>
        </p:nvSpPr>
        <p:spPr>
          <a:xfrm>
            <a:off x="1483920" y="3141720"/>
            <a:ext cx="626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某人沿正北方向走到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后，向左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行进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点，为了保持行进方向与开始平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此人应向哪边转多少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56339"/>
          <p:cNvGrpSpPr/>
          <p:nvPr/>
        </p:nvGrpSpPr>
        <p:grpSpPr>
          <a:xfrm>
            <a:off x="5078160" y="1268280"/>
            <a:ext cx="3283200" cy="2165760"/>
            <a:chOff x="5078160" y="1268280"/>
            <a:chExt cx="3283200" cy="2165760"/>
          </a:xfrm>
        </p:grpSpPr>
        <p:sp>
          <p:nvSpPr>
            <p:cNvPr id="242" name="直接连接符 56324"/>
            <p:cNvSpPr/>
            <p:nvPr/>
          </p:nvSpPr>
          <p:spPr>
            <a:xfrm>
              <a:off x="5508720" y="1555560"/>
              <a:ext cx="223200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56325"/>
            <p:cNvSpPr/>
            <p:nvPr/>
          </p:nvSpPr>
          <p:spPr>
            <a:xfrm>
              <a:off x="5508720" y="1555560"/>
              <a:ext cx="503280" cy="136836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直接连接符 56326"/>
            <p:cNvSpPr/>
            <p:nvPr/>
          </p:nvSpPr>
          <p:spPr>
            <a:xfrm>
              <a:off x="6012000" y="2923920"/>
              <a:ext cx="216036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直接连接符 56327"/>
            <p:cNvSpPr/>
            <p:nvPr/>
          </p:nvSpPr>
          <p:spPr>
            <a:xfrm>
              <a:off x="5508720" y="1534680"/>
              <a:ext cx="934920" cy="74160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直接连接符 56328"/>
            <p:cNvSpPr/>
            <p:nvPr/>
          </p:nvSpPr>
          <p:spPr>
            <a:xfrm flipV="1">
              <a:off x="6012000" y="2275920"/>
              <a:ext cx="431640" cy="64764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56330"/>
            <p:cNvSpPr/>
            <p:nvPr/>
          </p:nvSpPr>
          <p:spPr>
            <a:xfrm>
              <a:off x="7669080" y="13395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56331"/>
            <p:cNvSpPr/>
            <p:nvPr/>
          </p:nvSpPr>
          <p:spPr>
            <a:xfrm>
              <a:off x="5078160" y="1268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56332"/>
            <p:cNvSpPr/>
            <p:nvPr/>
          </p:nvSpPr>
          <p:spPr>
            <a:xfrm>
              <a:off x="5653080" y="27079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56333"/>
            <p:cNvSpPr/>
            <p:nvPr/>
          </p:nvSpPr>
          <p:spPr>
            <a:xfrm>
              <a:off x="7886520" y="2852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56334"/>
            <p:cNvSpPr/>
            <p:nvPr/>
          </p:nvSpPr>
          <p:spPr>
            <a:xfrm>
              <a:off x="6373800" y="198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56335"/>
            <p:cNvSpPr/>
            <p:nvPr/>
          </p:nvSpPr>
          <p:spPr>
            <a:xfrm>
              <a:off x="5653440" y="17492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56336"/>
            <p:cNvSpPr/>
            <p:nvPr/>
          </p:nvSpPr>
          <p:spPr>
            <a:xfrm>
              <a:off x="5869080" y="2276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任意多边形 56337"/>
            <p:cNvSpPr/>
            <p:nvPr/>
          </p:nvSpPr>
          <p:spPr>
            <a:xfrm flipH="1" rot="11234400">
              <a:off x="5650560" y="1699560"/>
              <a:ext cx="71280" cy="144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任意多边形 56338"/>
            <p:cNvSpPr/>
            <p:nvPr/>
          </p:nvSpPr>
          <p:spPr>
            <a:xfrm flipH="1" rot="4057800">
              <a:off x="5975280" y="2669400"/>
              <a:ext cx="71280" cy="144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文本框 56340"/>
          <p:cNvSpPr/>
          <p:nvPr/>
        </p:nvSpPr>
        <p:spPr>
          <a:xfrm>
            <a:off x="1150560" y="4869000"/>
            <a:ext cx="696780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同一平面内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条直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00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如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⊥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∥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⊥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∥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那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00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位置关系怎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6T14:08:43Z</dcterms:created>
  <dc:creator>www.czsx.com.cn</dc:creator>
  <dc:description>www.czsx.com.cn</dc:description>
  <dc:language>en-US</dc:language>
  <cp:lastModifiedBy>Administrator</cp:lastModifiedBy>
  <dcterms:modified xsi:type="dcterms:W3CDTF">2018-12-28T06:29:13Z</dcterms:modified>
  <cp:revision>111</cp:revision>
  <dc:subject/>
  <dc:title>www.czsx.com.c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